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487-2E07-4536-ABD5-CBA082DE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E32-FBD3-4D14-A728-3E8AB39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7C9-A4AE-4698-8D4C-E6BB08A7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993-422F-4EE2-86F6-882C0093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F3A-9718-4043-BCF3-AF6564D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39D-0AA7-4904-9CEF-C5420A1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4D1-CE37-4C05-9994-529B59D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A64-4BA3-4103-8BFE-631432D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DF0-C5AA-41F9-9CF5-64B9F4C7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3F1-EFFE-406A-977A-5A89A87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2FD-5527-4E23-B7F7-C6B1CE6C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11A-7073-405A-8C88-28F9561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8FC3-26D2-43F3-9BBB-C90E28F0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s.google.es/imgres?imgurl=http://moeys.net/wp-content/uploads/2007/08/scarf.jpg&amp;imgrefurl=http://www.moeys.net/tag/my-university-life/&amp;usg=__EtTv-p93PdanO23JB6bArKBKTlQ=&amp;h=640&amp;w=640&amp;sz=69&amp;hl=es&amp;start=1&amp;tbnid=lTAD48ogaG01nM:&amp;tbnh=137&amp;tbnw=137&amp;prev=/images%3Fq%3DSCARF%26gbv%3D2%26ndsp%3D20%26hl%3Des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14440" y="1068480"/>
            <a:ext cx="4515120" cy="472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OTHE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CCESSORIE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4524120" cy="4457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0160" y="4046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99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18520" y="5300640"/>
            <a:ext cx="47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99"/>
                </a:solidFill>
                <a:latin typeface="Arial"/>
              </a:rPr>
              <a:t>SWEA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90544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04920" y="765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9240" y="5516640"/>
            <a:ext cx="309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JA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5315040" cy="5315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50360" y="6969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720" y="5229360"/>
            <a:ext cx="306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DR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96080" cy="325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7640" y="1197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12920" y="393372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SHO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353200" cy="5353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28560" y="98100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5440" y="5229360"/>
            <a:ext cx="48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Arial"/>
              </a:rPr>
              <a:t>TRAIN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-819000"/>
            <a:ext cx="5676840" cy="5676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35480" y="47991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5080" y="3789360"/>
            <a:ext cx="50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BRACE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81280" y="11916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99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3440" y="4653000"/>
            <a:ext cx="510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"/>
              </a:rPr>
              <a:t>NECKLA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504800"/>
            <a:ext cx="4314600" cy="535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89440" y="3689280"/>
            <a:ext cx="153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99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1080" y="189000"/>
            <a:ext cx="49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99"/>
                </a:solidFill>
                <a:latin typeface="Arial"/>
              </a:rPr>
              <a:t>EARRING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0520" y="126828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720" y="4797360"/>
            <a:ext cx="268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221360" cy="482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84920" y="141444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99280" y="5084640"/>
            <a:ext cx="707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SUNGLASS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3381480" cy="550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9800" y="303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05280" y="4297320"/>
            <a:ext cx="16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63300"/>
                </a:solidFill>
                <a:latin typeface="Arial"/>
              </a:rPr>
              <a:t>c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324080"/>
            <a:ext cx="5353200" cy="535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146000" y="13500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35080" y="3879720"/>
            <a:ext cx="297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BEL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76280"/>
            <a:ext cx="2813040" cy="281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96360" y="12682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4520" y="3933720"/>
            <a:ext cx="396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SCARF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2857680" cy="4076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95840" y="127008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3640" y="5013360"/>
            <a:ext cx="54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HAIRB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5476680" cy="410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96920" y="345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300640"/>
            <a:ext cx="34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-SHI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19640" y="476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97280" y="27000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40360" y="5300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Arial"/>
              </a:rPr>
              <a:t>BOO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1680" y="676440"/>
            <a:ext cx="4400640" cy="55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7800" y="907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450720"/>
            <a:ext cx="100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HA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381560" cy="442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81280" y="193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1440" y="5229360"/>
            <a:ext cx="31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JEA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3571920" cy="535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0720" y="765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9440" y="551664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SKI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352840" cy="535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9440" y="14842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7080" y="5229360"/>
            <a:ext cx="483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43040" y="851040"/>
            <a:ext cx="5629320" cy="403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3080" y="3175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9600" y="5229360"/>
            <a:ext cx="373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ND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0:43:01Z</dcterms:created>
  <dc:creator>profesor</dc:creator>
  <dc:description/>
  <dc:language>en-US</dc:language>
  <cp:lastModifiedBy>Profesor</cp:lastModifiedBy>
  <dcterms:modified xsi:type="dcterms:W3CDTF">2009-11-18T12:15:14Z</dcterms:modified>
  <cp:revision>3</cp:revision>
  <dc:subject/>
  <dc:title>Diapositiva 1</dc:title>
</cp:coreProperties>
</file>